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B9C-949E-4B58-9A50-4876D439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1CF-946A-4A47-B0B1-DE470C9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FD0-ABF1-443C-8456-C907CA1C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132-6F1F-4652-B442-15BBF445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920EC-FD0D-4AE4-81BB-ED723C2D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890D-4953-4BF2-BC75-A1B4B7A0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04D3B-502C-4048-8DAE-89AC2B8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3A9CB-C690-4F73-AB66-7EE81E66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3C88D-6F4E-4A6C-BE19-B2522E19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0717A-3ED1-4DEC-B392-722A8711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E3CF3-39A6-4D33-A58E-0F0B4E7F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838-5F4B-4DF6-8B49-7C938A7A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04C7D-3327-4063-BB48-ABB8D19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EA3B-6DC1-473F-98EC-AB022C9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C3153-A278-4C10-8708-C6814CB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21D13-3F16-4A44-9203-2651360D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A496C-6094-43D0-86B8-D94FADDA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068-1006-4D9A-94D2-9402269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FAF-4098-48D3-A64E-4EE6FCA0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4FD-4100-4E18-A843-7FB4A5A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9F8-4ACC-4C35-98B2-5D3E075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F6F-8D80-4D37-B82A-BE01D3D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F86-033F-4FC5-A5B2-1DD8BB4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586-FC9E-49A6-9D0E-758BA9A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9AC5-51B2-4EE7-A948-B6377BFEB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5FEF-6338-4286-9E5E-B2C16F399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Book Antiqua"/>
              </a:rPr>
              <a:t>Darwin’s Theory of Evolution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15-1: The Puzzle of Life’s Diversity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iological divers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riety of life on Earth- different sizes, shapes, habita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estion or Proble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all these different organisms arise?  Where did they all come fr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answers questions by using- The scientific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ce looks for evi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a00"/>
                </a:solidFill>
                <a:latin typeface="Arial"/>
              </a:rPr>
              <a:t>Science’s Answer to the Question: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ory of 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hange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ell-supported testable expla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our support for Evolution came from Charles Darw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Charles Darwin</a:t>
            </a:r>
            <a:br>
              <a:rPr sz="4000"/>
            </a:b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31- set sail on th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gle.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 was the Naturalist on the ship.  Most of his research was done on The Galapagos Islan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de observations and collected evidence.  He even brought some organisms back to Engla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Observations: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s seemed remarkably well-suited for environment (how they survived and reprodu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species only lived in certain places. (eg. Animals in England compared to those found in Argentina and Austral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ssil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ed resembled organisms that were still alive, others looked like nothing he had ever seen bef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16:48Z</dcterms:created>
  <dc:creator>Brian and Megan Gallagher</dc:creator>
  <dc:description/>
  <dc:language>en-US</dc:language>
  <cp:lastModifiedBy>udsd</cp:lastModifiedBy>
  <dcterms:modified xsi:type="dcterms:W3CDTF">2010-05-24T14:17:55Z</dcterms:modified>
  <cp:revision>6</cp:revision>
  <dc:subject/>
  <dc:title>Darwin’s TheEvolution</dc:title>
</cp:coreProperties>
</file>